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0" y="4038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Z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0" y="152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The Virtual Meeting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TV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Interactive Distanc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ele-Commu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Brainstorm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0" y="4191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Z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0" y="380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The Virtual Classro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TV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VM                              T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dds a whole new visual dimension to an audio conference c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VM                              T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Multiple Locat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VM                              T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Low Bandwidth Require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VM                              T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Doesn’t Hog Network Re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VM                              T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istributed Real Time Conferencing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Business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Electronic Tele-Present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